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81B6D0-1727-4730-84E7-FE71868513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08342D-1949-4110-88F8-B2155E8ADF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59119-E771-4339-83C7-A8A86053F9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097E0-E2B6-4C77-9D7C-2BE76C9E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13516-F684-40BC-95ED-DBA4EA87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C6EA8-ABA5-431B-AA91-94B7B4574E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A1BB7-1C28-474D-A76D-E8FC6578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B765C-DFCA-4503-A3A9-7790C008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9902B-2C42-4C16-A446-D52AFD31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7446C-358E-4BC6-BFBE-A14BBB31A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64D59-6FE9-4882-840B-EE782816A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8511B-1394-453F-B778-D6EB3871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B5638-50A8-4CF7-A38F-4CB3B9E1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B0911-2451-4BB2-AC95-BEDE9886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4F86AB-37AF-4174-B3CD-AF363DFB9B40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0DAE5-ED0E-491E-A597-22CCF8176A9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835280" y="228600"/>
            <a:ext cx="5968800" cy="12733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0" y="4572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1657440" y="6093000"/>
            <a:ext cx="5829120" cy="61416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152280" y="6094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3357720"/>
            <a:ext cx="9144000" cy="13665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2421000"/>
            <a:ext cx="8208720" cy="22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 Black"/>
                <a:ea typeface="Arial"/>
              </a:rPr>
              <a:t>CONFERINȚĂ DE </a:t>
            </a:r>
            <a:r>
              <a:rPr b="1" lang="en-GB" sz="3600" spc="-1" strike="noStrike">
                <a:solidFill>
                  <a:srgbClr val="000000"/>
                </a:solidFill>
                <a:latin typeface="Arial Black"/>
                <a:ea typeface="Arial"/>
              </a:rPr>
              <a:t>FINALIZ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  <a:ea typeface="Arial"/>
              </a:rPr>
              <a:t>PROI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  <a:ea typeface="Arial"/>
              </a:rPr>
              <a:t>IMPLEMENTAREA POLITICII DE SECURITATE IT ÎN CONTEXTUL CODULUI VAMAL MODERNIZAT EUROPE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  <a:ea typeface="Arial"/>
              </a:rPr>
              <a:t>COD SMIS 384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C736AE-36F5-4269-9E2C-10080445B8FD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95640" y="5661000"/>
            <a:ext cx="4608360" cy="3603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43280" y="5661000"/>
            <a:ext cx="34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ucu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şti, 10 septembrie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042920" y="21337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Echipamente hardware/software achiziţionate, instalate şi configurate,  Licenţe achiziţion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14C638-87BD-497F-8E10-93574AB6FE57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21337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1628640"/>
            <a:ext cx="8064360" cy="505080"/>
          </a:xfrm>
          <a:prstGeom prst="roundRect">
            <a:avLst>
              <a:gd name="adj" fmla="val 16667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0920" y="1700280"/>
            <a:ext cx="50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  <a:ea typeface="Arial"/>
              </a:rPr>
              <a:t>REZULTATELE PROIECTULU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96920" y="3078000"/>
            <a:ext cx="7680240" cy="25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Manuale de Administrare şi de Utilizare a sistemului informatic de monitorizare a securităţii IT în contextul Codului Vamal Modernizat Europ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Manual de utilizare şi Metodologia de lucru pentru utilizarea semnăturii electronice pentru Declaraţia Sumară de Intrare (D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9720" y="310824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9720" y="45720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044720" y="2152800"/>
            <a:ext cx="77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Programe de instruire a personalului din sistemul vamal selectat ca formator – 25 de persoane în cadrul unei sesiuni cu durata de 5 zil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: 17.03.2014 - 21.03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4DB8EC-56A9-4F6C-B873-EB0A50D752B3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1628640"/>
            <a:ext cx="8064360" cy="505080"/>
          </a:xfrm>
          <a:prstGeom prst="roundRect">
            <a:avLst>
              <a:gd name="adj" fmla="val 16667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50920" y="1700280"/>
            <a:ext cx="50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  <a:ea typeface="Arial"/>
              </a:rPr>
              <a:t>REZULTATELE PROIECTULU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215892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96920" y="3292560"/>
            <a:ext cx="77724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Programe de instruire a personalului vamal  - 125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ersoane instruite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în cadrul a 5 sesiuni, cu durata de 5 zile fiecare. Fiecare sesiun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 avut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câte o grupă de 25 lucrători vamal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31.03 – 04.04.2014 – 2 sesiuni organizate la Iasi si Consta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07.04 – 11.04.2014 – 2 sesiuni organizate la Craiova si Bras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4.04 – 18.04.2014 – 1 sesiune organizata la Bucure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9360" y="328932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.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89080" y="521064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Programe de instruir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entru personal IT - 20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de specialişti IT instruiți în cadrul unei sesiuni cu durată de 5 zil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: 5.06.2014, 17.06.2014 - 20.06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9720" y="521172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.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85436F-C924-47B5-AC42-0443622AD0F4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042920" y="3068640"/>
            <a:ext cx="1719360" cy="3052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844720" y="3030480"/>
            <a:ext cx="5472360" cy="3079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11280" y="1628640"/>
            <a:ext cx="8064360" cy="505080"/>
          </a:xfrm>
          <a:prstGeom prst="roundRect">
            <a:avLst>
              <a:gd name="adj" fmla="val 16667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50920" y="1700280"/>
            <a:ext cx="50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  <a:ea typeface="Arial"/>
              </a:rPr>
              <a:t>REZULTATELE PROIECTULU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71640" y="215280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oiect promovat prin: comunicate de pres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, c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onferinţă de presă de promovare, m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teriale de informare şi publicitate realizate, tipărite şi difuzate, c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onferinţă naţională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de promov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21589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CB0D3F-4A58-4FA5-95D0-8A2C12F07BA2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763640" y="3068640"/>
            <a:ext cx="5472360" cy="3079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11280" y="1628640"/>
            <a:ext cx="8064360" cy="505080"/>
          </a:xfrm>
          <a:prstGeom prst="roundRect">
            <a:avLst>
              <a:gd name="adj" fmla="val 16667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0920" y="1700280"/>
            <a:ext cx="50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  <a:ea typeface="Arial"/>
              </a:rPr>
              <a:t>REZULTATELE PROIECTULU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(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71640" y="215280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oiect promovat prin: comunicate de pres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, c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onferinţă de presă de promovare, m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teriale de informare şi publicitate realizate, tipărite şi difuzate, c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onferinţă naţională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de promov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21589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9DADEF-61A3-4AB8-89B0-87864D92F893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06560" y="2847960"/>
            <a:ext cx="4389480" cy="24703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724360" y="2847960"/>
            <a:ext cx="2597400" cy="2550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11280" y="1628640"/>
            <a:ext cx="8064360" cy="505080"/>
          </a:xfrm>
          <a:prstGeom prst="roundRect">
            <a:avLst>
              <a:gd name="adj" fmla="val 16667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50920" y="1700280"/>
            <a:ext cx="50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  <a:ea typeface="Arial"/>
              </a:rPr>
              <a:t>REZULTATELE PROIECTULU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(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21985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71640" y="220500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Planul de instruire şi materialele de instruire elaborate, aprobate şi dise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14400" y="5486400"/>
            <a:ext cx="7615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Stagiu de schimb de experi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ă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i bune practici organiza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i realiza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V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via, Polonia, 30.06.2014 - 04.07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560" y="54864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42920" y="2347920"/>
            <a:ext cx="7129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zultate pe termen mediu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rearea unui mediu de lucru  „paperless” – bazat pe eliminarea suportului hârt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reşterea nivelului de securitate IT prin aplicarea măsurilor/procedurilor de securitate IT în contextul Codului Vamal Moderniz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prijinirea personalului IT în aplicarea eficientă a măsurilor/procedurilor de securitate în contextul Codului Vamal Modernizat prin folosirea sistemului informatic de monitorizare a securităţii 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27E867-097B-4551-8C49-F611232FC394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1628640"/>
            <a:ext cx="8064360" cy="505080"/>
          </a:xfrm>
          <a:prstGeom prst="roundRect">
            <a:avLst>
              <a:gd name="adj" fmla="val 16667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50920" y="1700280"/>
            <a:ext cx="50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MPACTUL PROIECTULUI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88600" y="2997360"/>
            <a:ext cx="523080" cy="30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71640" y="2347920"/>
            <a:ext cx="7272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zultate pe termen lu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Îmbunătăţirea cooperării instituţiei cu Comisia Europeană pe probleme de politici de securitate în contextul Codului Vamal Modernizat Europe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mplementarea celor mai bune practici de securitate IT prin aplicarea măsurilor/procedurilor de securitate IT în contextul Codului Vamal Moderniza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prijinirea personalului IT în aplicarea eficientă a măsurilor/procedurilor de securitate în contextul Codului Vamal Modernizat prin folosirea sistemului informatic de monitorizare a securităţii I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B65BE7-EA49-4BF9-832C-EA1E158875A7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1628640"/>
            <a:ext cx="8064360" cy="505080"/>
          </a:xfrm>
          <a:prstGeom prst="roundRect">
            <a:avLst>
              <a:gd name="adj" fmla="val 16667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050920" y="1700280"/>
            <a:ext cx="50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MPACTUL PROIECTULUI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8600" y="2997360"/>
            <a:ext cx="523080" cy="33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413080" y="2489040"/>
            <a:ext cx="52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Crearea unui mediu de lucr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paperl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” pentru vamă și comerţ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Garantarea identit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ii operatorilor economici prin utilizarea de certificate calific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eșterea nivelului de securitat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32C97E-67F7-4ECE-916D-55E8D52EEC4C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1628640"/>
            <a:ext cx="8064360" cy="505080"/>
          </a:xfrm>
          <a:prstGeom prst="roundRect">
            <a:avLst>
              <a:gd name="adj" fmla="val 16667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170028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ENEFICII PENTRU OPERATORII ECONOM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76360" y="2637000"/>
            <a:ext cx="792000" cy="504720"/>
          </a:xfrm>
          <a:prstGeom prst="rightArrow">
            <a:avLst>
              <a:gd name="adj1" fmla="val 50000"/>
              <a:gd name="adj2" fmla="val 39230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76360" y="3860640"/>
            <a:ext cx="792000" cy="505080"/>
          </a:xfrm>
          <a:prstGeom prst="rightArrow">
            <a:avLst>
              <a:gd name="adj1" fmla="val 50000"/>
              <a:gd name="adj2" fmla="val 39202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76360" y="5013360"/>
            <a:ext cx="792000" cy="504720"/>
          </a:xfrm>
          <a:prstGeom prst="rightArrow">
            <a:avLst>
              <a:gd name="adj1" fmla="val 50000"/>
              <a:gd name="adj2" fmla="val 39230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748240" y="2492280"/>
            <a:ext cx="33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Arial"/>
              </a:rPr>
              <a:t>V</a:t>
            </a:r>
            <a:r>
              <a:rPr b="0" lang="ro-RO" sz="3600" spc="-1" strike="noStrike">
                <a:solidFill>
                  <a:srgbClr val="000000"/>
                </a:solidFill>
                <a:latin typeface="Arial Black"/>
                <a:ea typeface="Arial"/>
              </a:rPr>
              <a:t>ă mul</a:t>
            </a:r>
            <a:r>
              <a:rPr b="1" lang="ro-RO" sz="3600" spc="-1" strike="noStrike">
                <a:solidFill>
                  <a:srgbClr val="000000"/>
                </a:solidFill>
                <a:latin typeface="Arial Black"/>
                <a:ea typeface="Arial"/>
              </a:rPr>
              <a:t>ţ</a:t>
            </a:r>
            <a:r>
              <a:rPr b="0" lang="ro-RO" sz="3600" spc="-1" strike="noStrike">
                <a:solidFill>
                  <a:srgbClr val="000000"/>
                </a:solidFill>
                <a:latin typeface="Arial Black"/>
                <a:ea typeface="Arial"/>
              </a:rPr>
              <a:t>umesc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203640" y="3357720"/>
            <a:ext cx="26668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11280" y="1628640"/>
            <a:ext cx="8064360" cy="1079640"/>
          </a:xfrm>
          <a:prstGeom prst="roundRect">
            <a:avLst>
              <a:gd name="adj" fmla="val 16667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700280"/>
            <a:ext cx="820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  <a:ea typeface="Arial"/>
              </a:rPr>
              <a:t>DATE GENERALE DESPRE PROIECT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  <a:ea typeface="Arial"/>
              </a:rPr>
              <a:t>IMPLEMENTAREA POLITICII DE SECURITATE IT ÎN CONTEXTUL CODULUI VAMAL MODERNIZAT EUROPEA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C6E1BB-9803-43F2-99BD-62C113557E53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71640" y="2828880"/>
            <a:ext cx="188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A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 FINAN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71640" y="4125960"/>
            <a:ext cx="15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RSA 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NAN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290196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R: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325/15.05.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16360" y="3357720"/>
            <a:ext cx="5759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UL OPERA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ONAL 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DEZVOLTAREA CAPACITĂȚII ADMINISTRATIVE</a:t>
            </a:r>
            <a:br>
              <a:rPr sz="1800"/>
            </a:b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Axa prioritară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Îmbunătăţiri de structură şi proces ale managementului ciclului de politici publice </a:t>
            </a:r>
            <a:br>
              <a:rPr sz="1800"/>
            </a:b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Domeniul de intervenție 1.1.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- Îmbunătăţirea procesului de luare a deciziilor la nivel politico-administrat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43280" y="2781360"/>
            <a:ext cx="1440" cy="27842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568476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RACT FINAN</a:t>
            </a:r>
            <a:r>
              <a:rPr b="1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T DIN FONDUL </a:t>
            </a:r>
            <a:r>
              <a:rPr b="1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SOCIAL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UROPEAN, COD SMI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 3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84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395280" y="3500280"/>
          <a:ext cx="8497440" cy="2036520"/>
        </p:xfrm>
        <a:graphic>
          <a:graphicData uri="http://schemas.openxmlformats.org/drawingml/2006/table">
            <a:tbl>
              <a:tblPr/>
              <a:tblGrid>
                <a:gridCol w="1655640"/>
                <a:gridCol w="1729440"/>
                <a:gridCol w="1729080"/>
                <a:gridCol w="1727640"/>
                <a:gridCol w="1655640"/>
              </a:tblGrid>
              <a:tr h="1466280">
                <a:tc>
                  <a:txBody>
                    <a:bodyPr lIns="90000" rIns="90000" tIns="914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area totală a proiectului (lei), din car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area tota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ă</a:t>
                      </a: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ligibi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ă</a:t>
                      </a: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 Proiectului (f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ă</a:t>
                      </a: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ă</a:t>
                      </a: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VA)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area eligibilă nerambursabilă finanţată din F</a:t>
                      </a: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lei)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finanțarea eligibi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ă</a:t>
                      </a: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 Beneficiarului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lei)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VA (lei)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914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12.320,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592.508,6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853.632,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38.876,2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19.811,4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2700360" y="292428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Durata proiectului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de lu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071341-10D6-4380-A571-4242F97552FB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1628640"/>
            <a:ext cx="8064360" cy="1079640"/>
          </a:xfrm>
          <a:prstGeom prst="roundRect">
            <a:avLst>
              <a:gd name="adj" fmla="val 16667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1700280"/>
            <a:ext cx="820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  <a:ea typeface="Arial"/>
              </a:rPr>
              <a:t>DATE GENERALE DESPRE PROIECT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  <a:ea typeface="Arial"/>
              </a:rPr>
              <a:t>IMPLEMENTAREA POLITICII DE SECURITATE IT ÎN CONTEXTUL CODULUI VAMAL MODERNIZAT EUROPEA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11280" y="1628640"/>
            <a:ext cx="8064360" cy="505080"/>
          </a:xfrm>
          <a:prstGeom prst="roundRect">
            <a:avLst>
              <a:gd name="adj" fmla="val 16667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1280" y="1628640"/>
            <a:ext cx="820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2600" spc="-1" strike="noStrike">
                <a:solidFill>
                  <a:srgbClr val="ffffff"/>
                </a:solidFill>
                <a:latin typeface="Arial"/>
                <a:ea typeface="Arial"/>
              </a:rPr>
              <a:t>OBIECTIVELE PROIECTULU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71640" y="2205000"/>
            <a:ext cx="770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Elaborarea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ăsurilor/procedurilor de securitate IT în contextul Codului Vamal Modernizat Europe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Dezvoltarea,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testarea şi implementarea sistemului informatic de monitorizare a securităţii IT în contextul Codului Vamal Modernizat Europea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plementarea  semnăturii electronice – la nivel de pilot, pentru Declaraţia Sumară de Intrare (DSI) ce este gestionată de Sistemul de Control al Importurilor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irea personalului vamal pe problemele politicii de securitate IT în contextul Codului Vamal Modernizat European şi de utilizare a noului sistem informatic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725E63-744E-4307-B270-774AB0BF219F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280" y="2346480"/>
            <a:ext cx="491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E7E40C-CF81-4206-9AC6-0C7118958E93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79280" y="2276640"/>
          <a:ext cx="8788320" cy="4352400"/>
        </p:xfrm>
        <a:graphic>
          <a:graphicData uri="http://schemas.openxmlformats.org/drawingml/2006/table">
            <a:tbl>
              <a:tblPr/>
              <a:tblGrid>
                <a:gridCol w="4718880"/>
                <a:gridCol w="360360"/>
                <a:gridCol w="360720"/>
                <a:gridCol w="314280"/>
                <a:gridCol w="282600"/>
                <a:gridCol w="352440"/>
                <a:gridCol w="282600"/>
                <a:gridCol w="280800"/>
                <a:gridCol w="282960"/>
                <a:gridCol w="282600"/>
                <a:gridCol w="424080"/>
                <a:gridCol w="449280"/>
                <a:gridCol w="396720"/>
              </a:tblGrid>
              <a:tr h="366480">
                <a:tc rowSpan="2">
                  <a:txBody>
                    <a:bodyPr lIns="90000" rIns="90000" tIns="914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 gridSpan="12">
                  <a:txBody>
                    <a:bodyPr lIns="90000" rIns="90000" tIns="8892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ro-RO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 1 de implementa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813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813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813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813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813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813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813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813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813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813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813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813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367200"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</a:t>
                      </a:r>
                      <a:r>
                        <a:rPr b="0" lang="fr-F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ă</a:t>
                      </a:r>
                      <a:r>
                        <a:rPr b="0" lang="vi-VN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ţ</a:t>
                      </a:r>
                      <a:r>
                        <a:rPr b="0" lang="fr-F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e Management de Proiect inter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366480"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</a:t>
                      </a:r>
                      <a:r>
                        <a:rPr b="0" lang="fr-F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ă</a:t>
                      </a:r>
                      <a:r>
                        <a:rPr b="0" lang="vi-VN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ţ</a:t>
                      </a:r>
                      <a:r>
                        <a:rPr b="0" lang="fr-F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e management de proiect exter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609840"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</a:t>
                      </a:r>
                      <a:r>
                        <a:rPr b="0" lang="vi-VN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ăţi de asigurare a infrastructurii aferente implementării proiectulu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414360"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</a:t>
                      </a:r>
                      <a:r>
                        <a:rPr b="0" lang="vi-VN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ăţi de promovare proiect, disemina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609840"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</a:t>
                      </a:r>
                      <a:r>
                        <a:rPr b="0" lang="vi-VN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ăţi de consultanţă şi expertiză  aferentă implementării proiectulu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868680"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</a:t>
                      </a:r>
                      <a:r>
                        <a:rPr b="0" lang="vi-VN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rea unui stagiu de schimb de experienţă şi bune practici într-o Administraţie Vamală a unui Stat Membru al  U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366840"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 </a:t>
                      </a:r>
                      <a:r>
                        <a:rPr b="0" lang="vi-VN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ăţi de audit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611280" y="1628640"/>
            <a:ext cx="8064360" cy="505080"/>
          </a:xfrm>
          <a:prstGeom prst="roundRect">
            <a:avLst>
              <a:gd name="adj" fmla="val 16667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170028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  <a:ea typeface="Arial"/>
              </a:rPr>
              <a:t>STRATEGIA DE IMPLEMENTARE A PROIECTULU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964103-2DC6-4C3D-9AC2-05E2761D4E63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79280" y="2228760"/>
          <a:ext cx="8823240" cy="4377960"/>
        </p:xfrm>
        <a:graphic>
          <a:graphicData uri="http://schemas.openxmlformats.org/drawingml/2006/table">
            <a:tbl>
              <a:tblPr/>
              <a:tblGrid>
                <a:gridCol w="4737960"/>
                <a:gridCol w="361800"/>
                <a:gridCol w="362520"/>
                <a:gridCol w="314280"/>
                <a:gridCol w="284040"/>
                <a:gridCol w="354240"/>
                <a:gridCol w="282600"/>
                <a:gridCol w="284040"/>
                <a:gridCol w="282960"/>
                <a:gridCol w="284040"/>
                <a:gridCol w="425520"/>
                <a:gridCol w="450720"/>
                <a:gridCol w="398520"/>
              </a:tblGrid>
              <a:tr h="344160">
                <a:tc rowSpan="2">
                  <a:txBody>
                    <a:bodyPr lIns="90000" rIns="90000" tIns="914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 gridSpan="12">
                  <a:txBody>
                    <a:bodyPr lIns="90000" rIns="90000" tIns="864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 2 de implement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813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813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813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813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813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813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813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813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813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813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813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813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394200"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</a:t>
                      </a:r>
                      <a:r>
                        <a:rPr b="0" lang="fr-F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ăţi de Management de Proiect inter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394200"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</a:t>
                      </a:r>
                      <a:r>
                        <a:rPr b="0" lang="fr-F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ă</a:t>
                      </a:r>
                      <a:r>
                        <a:rPr b="0" lang="vi-VN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ţ</a:t>
                      </a:r>
                      <a:r>
                        <a:rPr b="0" lang="fr-F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e management de proiect exter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585720"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</a:t>
                      </a:r>
                      <a:r>
                        <a:rPr b="0" lang="vi-VN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ăţi de asigurare a infrastructurii aferente implementării proiectulu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394200"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</a:t>
                      </a:r>
                      <a:r>
                        <a:rPr b="0" lang="vi-VN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ăţi de promovare proiect, disemina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585720"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</a:t>
                      </a:r>
                      <a:r>
                        <a:rPr b="0" lang="vi-VN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ăţi de consultanţă şi expertiză  aferentă implementării proiectulu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811080"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</a:t>
                      </a:r>
                      <a:r>
                        <a:rPr b="0" lang="vi-VN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rea unui stagiu de schimb de experienţă şi bune practici într-o Administraţie Vamală a unui Stat Membru al  U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394200"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 </a:t>
                      </a:r>
                      <a:r>
                        <a:rPr b="0" lang="vi-VN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ăţi de audit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df5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611280" y="1628640"/>
            <a:ext cx="8064360" cy="505080"/>
          </a:xfrm>
          <a:prstGeom prst="roundRect">
            <a:avLst>
              <a:gd name="adj" fmla="val 16667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170028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  <a:ea typeface="Arial"/>
              </a:rPr>
              <a:t>STRATEGIA DE IMPLEMENTARE A PROIECTULU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1EE866-14AF-4E5C-B20A-C28F43CE402E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24000" y="2421000"/>
          <a:ext cx="8641800" cy="4260600"/>
        </p:xfrm>
        <a:graphic>
          <a:graphicData uri="http://schemas.openxmlformats.org/drawingml/2006/table">
            <a:tbl>
              <a:tblPr/>
              <a:tblGrid>
                <a:gridCol w="6121800"/>
                <a:gridCol w="648360"/>
                <a:gridCol w="718920"/>
                <a:gridCol w="649440"/>
                <a:gridCol w="503280"/>
              </a:tblGrid>
              <a:tr h="344160">
                <a:tc rowSpan="2">
                  <a:txBody>
                    <a:bodyPr lIns="90000" rIns="90000" tIns="914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 gridSpan="4">
                  <a:txBody>
                    <a:bodyPr lIns="90000" rIns="90000" tIns="864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 3 de implement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813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813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813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813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394200"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</a:t>
                      </a:r>
                      <a:r>
                        <a:rPr b="0" lang="fr-F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ăţi de Management de Proiect inter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394200"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</a:t>
                      </a:r>
                      <a:r>
                        <a:rPr b="0" lang="fr-F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ă</a:t>
                      </a:r>
                      <a:r>
                        <a:rPr b="0" lang="vi-VN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ţ</a:t>
                      </a:r>
                      <a:r>
                        <a:rPr b="0" lang="fr-F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e management de proiect exter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585720"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</a:t>
                      </a:r>
                      <a:r>
                        <a:rPr b="0" lang="vi-VN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ăţi de asigurare a infrastructurii aferente implementării proiectulu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394200"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</a:t>
                      </a:r>
                      <a:r>
                        <a:rPr b="0" lang="vi-VN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ăţi de promovare proiect, disemina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585720"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</a:t>
                      </a:r>
                      <a:r>
                        <a:rPr b="0" lang="vi-VN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ăţi de consultanţă şi expertiză  aferentă implementării proiectulu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811080"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</a:t>
                      </a:r>
                      <a:r>
                        <a:rPr b="0" lang="vi-VN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rea unui stagiu de schimb de experienţă şi bune practici într-o Administraţie Vamală a unui Stat Membru al  U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394200"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 </a:t>
                      </a:r>
                      <a:r>
                        <a:rPr b="0" lang="vi-VN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ăţi de audit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611280" y="1628640"/>
            <a:ext cx="8064360" cy="505080"/>
          </a:xfrm>
          <a:prstGeom prst="roundRect">
            <a:avLst>
              <a:gd name="adj" fmla="val 16667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170028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  <a:ea typeface="Arial"/>
              </a:rPr>
              <a:t>STRATEGIA DE IMPLEMENTARE A PROIECTULU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42920" y="2205000"/>
            <a:ext cx="7561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pecialişti I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de la nivelul Direcţiei Tehnolog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Informaţiei, Comunicaţii şi Statistică Vamală din cadrul A.N.A.F. în număr de 2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ucrători vamali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, utilizatori ai Sistemului Informatic Integrat Vamal (SIIV) în număr de 150, dintre c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F098B9-E874-4596-A49F-0E1CDC2EB48C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628640"/>
            <a:ext cx="8064360" cy="505080"/>
          </a:xfrm>
          <a:prstGeom prst="roundRect">
            <a:avLst>
              <a:gd name="adj" fmla="val 16667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92360" y="170028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GRUPUL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  <a:ea typeface="Arial"/>
              </a:rPr>
              <a:t>Ț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  <a:ea typeface="Arial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AL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  <a:ea typeface="Arial"/>
              </a:rPr>
              <a:t>PROIECT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76360" y="4005360"/>
            <a:ext cx="7199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  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125 lucrători vamali,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c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u fost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instruiţi pe politica 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securitate a SIIV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 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25 lucrători vamali cu statut de formatori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, care vor asigura sustenabilitatea proiectului ulterior implementării acestuia, prin continuarea formării angajaţilor A.N.A.F. la toate nivelurile ierarh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50440" y="2228760"/>
            <a:ext cx="52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71640" y="2249640"/>
            <a:ext cx="7632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Politica de Securitate IT în contextul Codului Vamal Modernizat European, elaborată şi aprobată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Măsuri/Proceduri de Securitate IT în contextul Codului Vamal Modernizat European, elaborate şi aprob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Sistem informatic de monitorizare a securităţii IT în contextul Codului Vamal Modernizat European dezvoltat, testat, implementat şi integrat  în SII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Sistem informatic pentru semnătură electronică, pentru Declaraţia Sumară de Intrare (DSI), dezvoltat, testat şi implementat la nivel de pilot şi integrat în SI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7593E9-E96E-4B6A-B3FC-EC059B31B0B8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1628640"/>
            <a:ext cx="8064360" cy="505080"/>
          </a:xfrm>
          <a:prstGeom prst="roundRect">
            <a:avLst>
              <a:gd name="adj" fmla="val 16667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700280"/>
            <a:ext cx="50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  <a:ea typeface="Arial"/>
              </a:rPr>
              <a:t>REZULTATELE PROIECTULU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227664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37893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50133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13:12:26Z</dcterms:created>
  <dc:creator>ACG</dc:creator>
  <dc:description/>
  <dc:language>en-US</dc:language>
  <cp:lastModifiedBy/>
  <dcterms:modified xsi:type="dcterms:W3CDTF">2015-08-06T13:04:59Z</dcterms:modified>
  <cp:revision>112</cp:revision>
  <dc:subject/>
  <dc:title>“MONITORIZAREA ŞI EFICIENTIZAREA PROCESELOR DE LUCRU ŞI A FLUXULUI DE DOCUMENTE LA NIVEL CENTRAL ŞI LA NIVELUL UNITĂŢILOR TERITORIALE, PĂSTRAREA INFORMAŢIEI ÎN CONDIŢII SIGURE ŞI CU COSTURI OPTIME”</dc:title>
</cp:coreProperties>
</file>