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B3C8E-68EB-43A2-846A-096050836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5E14-D427-4B23-B3F2-7644F5436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7620-C897-4701-93C7-6785C31BB8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28CD-7CE6-4C26-A2D2-093D469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8054-7153-4D77-8C6C-E9C3235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A41B-4F6D-41DB-8B91-DBB2EF25B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99ED-BAA6-4DFE-8EDD-F21E95E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70AE-D1A6-45EF-BB3D-1211128C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3720-7BA7-461A-81AB-92254FCF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BD74-CADA-454A-B206-F973FDBB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DEDE-3E84-41BA-B56E-0AF1FF44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190E-4F2B-4368-825F-6D443CC3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FBB2-854C-434C-8E95-5E5257D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D99C-3BA4-46DB-AED7-99787FA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43B5E-DB5D-4457-ADDE-2FF646558E7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50F18-24DA-4CB9-A6AA-749A7B4FD8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35280" y="228600"/>
            <a:ext cx="5968800" cy="1273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657440" y="6093000"/>
            <a:ext cx="5829120" cy="6141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52280" y="609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357720"/>
            <a:ext cx="9144000" cy="1366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421000"/>
            <a:ext cx="82087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CONFERINȚĂ DE </a:t>
            </a:r>
            <a:r>
              <a:rPr b="1" lang="en-GB" sz="3600" spc="-1" strike="noStrike">
                <a:solidFill>
                  <a:srgbClr val="000000"/>
                </a:solidFill>
                <a:latin typeface="Arial Black"/>
                <a:ea typeface="Arial"/>
              </a:rPr>
              <a:t>FINALIZ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PROI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IMPLEMENTAREA POLITICII DE SECURITATE IT ÎN CONTEXTUL CODULUI VAMAL MODERNIZAT EUROP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COD SMIS 384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F143B-76C6-4C14-9C95-3C56FE70741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5661000"/>
            <a:ext cx="4608360" cy="36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5661000"/>
            <a:ext cx="34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c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şti, 10 septembri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2133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chipamente hardware/software achiziţionate, instalate şi configurate,  Licenţe achiziţio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6AD6-D91C-4721-9BAC-5B4FC28B645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133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6920" y="3078000"/>
            <a:ext cx="768024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anuale de Administrare şi de Utilizare a sistemului informatic de monitorizare a securităţii IT în contextul Codului Vamal Modernizat Europ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anual de utilizare şi Metodologia de lucru pentru utilizarea semnăturii electronice pentru Declaraţia Sumară de Intrare (D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9720" y="3108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9720" y="4572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44720" y="215280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rograme de instruire a personalului din sistemul vamal selectat ca formator – 25 de persoane în cadrul unei sesiuni cu durata de 5 zi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17.03.2014 - 21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03473-7295-4959-B391-09E78BEE7DB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158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6920" y="32925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rograme de instruire a personalului vamal  - 12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soane instrui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în cadrul a 5 sesiuni, cu durata de 5 zile fiecare. Fiecare sesiu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avut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âte o grupă de 25 lucrători vam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1.03 – 04.04.2014 – 2 sesiuni organizate la Iasi si C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07.04 – 11.04.2014 – 2 sesiuni organizate la Craiova si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.04 – 18.04.2014 – 1 sesiune organizata la Bucur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360" y="32893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521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rograme de instrui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ntru personal IT - 20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 specialişti IT instruiți în cadrul unei sesiuni cu durată de 5 zi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5.06.2014, 17.06.2014 - 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9720" y="5211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.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1E859-F211-408A-AC8E-F0FCED5682D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171936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44720" y="3030480"/>
            <a:ext cx="5472360" cy="307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21528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iect promovat prin: comunicate de pre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de presă de promovare, 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teriale de informare şi publicitate realizate, tipărite şi difuzate, 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naţional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de prom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58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DE81D-0BFC-473C-898F-80A0B4040C2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472360" cy="3079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1528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iect promovat prin: comunicate de pre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de presă de promovare, 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teriale de informare şi publicitate realizate, tipărite şi difuzate, 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nferinţă naţional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de prom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158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0CD40-CB77-4A84-A108-391E3F579B3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06560" y="2847960"/>
            <a:ext cx="4389480" cy="247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24360" y="2847960"/>
            <a:ext cx="2597400" cy="255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198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2205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lanul de instruire şi materialele de instruire elaborate, aprobate şi dise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5486400"/>
            <a:ext cx="761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agiu de schimb de experi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 bune practici organiz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 realiza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ia, Polonia, 30.06.2014 - 04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560" y="5486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42920" y="2347920"/>
            <a:ext cx="712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e pe termen medi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rea unui mediu de lucru  „paperless” – bazat pe eliminarea suportului hâr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şterea nivelului de securitate IT prin aplicarea măsurilor/procedurilor de securitate IT în contextul Codului Vamal Moderniz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rijinirea personalului IT în aplicarea eficientă a măsurilor/procedurilor de securitate în contextul Codului Vamal Modernizat prin folosirea sistemului informatic de monitorizare a securităţii 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56F8-33E1-423F-AF5D-5E5A693044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PACTUL PROIECTULU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8600" y="2997360"/>
            <a:ext cx="52308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71640" y="234792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e pe termen l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mbunătăţirea cooperării instituţiei cu Comisia Europeană pe probleme de politici de securitate în contextul Codului Vamal Modernizat Europ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rea celor mai bune practici de securitate IT prin aplicarea măsurilor/procedurilor de securitate IT în contextul Codului Vamal Moderniz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rijinirea personalului IT în aplicarea eficientă a măsurilor/procedurilor de securitate în contextul Codului Vamal Modernizat prin folosirea sistemului informatic de monitorizare a securităţii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FBE20-C980-4296-B6F6-78C70FC8243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PACTUL PROIECTULU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8600" y="2997360"/>
            <a:ext cx="52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13080" y="248904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rearea unui mediu de luc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aper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pentru vamă și comerţ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Garantarea identit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i operatorilor economici prin utilizarea de certificate cal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șterea nivelului de securitat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0415-4E2A-4B7B-921F-F999F5B3754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NEFICII PENTRU OPERATORII ECONOM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2637000"/>
            <a:ext cx="792000" cy="504720"/>
          </a:xfrm>
          <a:prstGeom prst="rightArrow">
            <a:avLst>
              <a:gd name="adj1" fmla="val 50000"/>
              <a:gd name="adj2" fmla="val 3923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860640"/>
            <a:ext cx="792000" cy="505080"/>
          </a:xfrm>
          <a:prstGeom prst="rightArrow">
            <a:avLst>
              <a:gd name="adj1" fmla="val 50000"/>
              <a:gd name="adj2" fmla="val 3920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013360"/>
            <a:ext cx="792000" cy="504720"/>
          </a:xfrm>
          <a:prstGeom prst="rightArrow">
            <a:avLst>
              <a:gd name="adj1" fmla="val 50000"/>
              <a:gd name="adj2" fmla="val 3923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48240" y="2492280"/>
            <a:ext cx="33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V</a:t>
            </a:r>
            <a:r>
              <a:rPr b="0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ă mul</a:t>
            </a:r>
            <a:r>
              <a:rPr b="1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ţ</a:t>
            </a:r>
            <a:r>
              <a:rPr b="0" lang="ro-RO" sz="3600" spc="-1" strike="noStrike">
                <a:solidFill>
                  <a:srgbClr val="000000"/>
                </a:solidFill>
                <a:latin typeface="Arial Black"/>
                <a:ea typeface="Arial"/>
              </a:rPr>
              <a:t>umesc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1628640"/>
            <a:ext cx="8064360" cy="107964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DATE GENERALE DESPRE PROIEC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IMPLEMENTAREA POLITICII DE SECURITATE IT ÎN CONTEXTUL CODULUI VAMAL MODERNIZAT EUROPE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A5CB3-DAEA-4626-AF9A-396E358F4C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8288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FINAN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41259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SA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N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90196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R: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325/15.0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3357720"/>
            <a:ext cx="57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UL OPERA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ONAL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ZVOLTAREA CAPACITĂȚII ADMINISTRATIVE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xa prioritară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Îmbunătăţiri de structură şi proces ale managementului ciclului de politici publice 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omeniul de intervenție 1.1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 Îmbunătăţirea procesului de luare a deciziilor la nivel politico-administr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781360"/>
            <a:ext cx="1440" cy="27842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6847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RACT FINAN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IN FONDUL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OCIA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UROPEAN, COD SM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3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8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95280" y="3500280"/>
          <a:ext cx="8497440" cy="2036520"/>
        </p:xfrm>
        <a:graphic>
          <a:graphicData uri="http://schemas.openxmlformats.org/drawingml/2006/table">
            <a:tbl>
              <a:tblPr/>
              <a:tblGrid>
                <a:gridCol w="1655640"/>
                <a:gridCol w="1729440"/>
                <a:gridCol w="1729080"/>
                <a:gridCol w="1727640"/>
                <a:gridCol w="1655640"/>
              </a:tblGrid>
              <a:tr h="1466280"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area totală a proiectului (lei), din ca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area tot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ligibi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Proiectului (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VA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area eligibilă nerambursabilă finanţată din F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ei)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inanțarea eligibi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Beneficiarului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ei)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A (lei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12.32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92.508,6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53.632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8.876,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19.811,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700360" y="2924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urata proiectului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 lu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3835E-18B6-489E-80C1-2F878E98F4B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628640"/>
            <a:ext cx="8064360" cy="107964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002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DATE GENERALE DESPRE PROIEC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IMPLEMENTAREA POLITICII DE SECURITATE IT ÎN CONTEXTUL CODULUI VAMAL MODERNIZAT EUROPE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28640"/>
            <a:ext cx="82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Arial"/>
                <a:ea typeface="Arial"/>
              </a:rPr>
              <a:t>OBIECTIVELE PROIECTUL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20500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e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ăsurilor/procedurilor de securitate IT în contextul Codului Vamal Modernizat Europe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zvoltarea,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starea şi implementarea sistemului informatic de monitorizare a securităţii IT în contextul Codului Vamal Modernizat Europ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plementarea  semnăturii electronice – la nivel de pilot, pentru Declaraţia Sumară de Intrare (DSI) ce este gestionată de Sistemul de Control al Importurilor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irea personalului vamal pe problemele politicii de securitate IT în contextul Codului Vamal Modernizat European şi de utilizare a noului sistem informati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DC77F-B0CB-4BA9-8B50-7F651B58FDF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280" y="2346480"/>
            <a:ext cx="49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319E8-499E-416F-9A5D-FFCABA79016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2276640"/>
          <a:ext cx="8788320" cy="4352400"/>
        </p:xfrm>
        <a:graphic>
          <a:graphicData uri="http://schemas.openxmlformats.org/drawingml/2006/table">
            <a:tbl>
              <a:tblPr/>
              <a:tblGrid>
                <a:gridCol w="4718880"/>
                <a:gridCol w="360360"/>
                <a:gridCol w="360720"/>
                <a:gridCol w="314280"/>
                <a:gridCol w="282600"/>
                <a:gridCol w="352440"/>
                <a:gridCol w="282600"/>
                <a:gridCol w="280800"/>
                <a:gridCol w="282960"/>
                <a:gridCol w="282600"/>
                <a:gridCol w="424080"/>
                <a:gridCol w="449280"/>
                <a:gridCol w="396720"/>
              </a:tblGrid>
              <a:tr h="366480">
                <a:tc rowSpan="2"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gridSpan="12">
                  <a:txBody>
                    <a:bodyPr lIns="90000" rIns="90000" tIns="8892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1 de implement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7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in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64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ex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984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sigurare a infrastructurii aferente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1436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promovare proiect, disemin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984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consultanţă şi expertiză  aferentă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8686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stagiu de schimb de experienţă şi bune practici într-o Administraţie Vamală a unui Stat Membru al  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6684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udi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70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A DE IMPLEMENTARE A PROIEC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87B68-C7F7-4860-9D35-967423068D9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2228760"/>
          <a:ext cx="8823240" cy="4377960"/>
        </p:xfrm>
        <a:graphic>
          <a:graphicData uri="http://schemas.openxmlformats.org/drawingml/2006/table">
            <a:tbl>
              <a:tblPr/>
              <a:tblGrid>
                <a:gridCol w="4737960"/>
                <a:gridCol w="361800"/>
                <a:gridCol w="362520"/>
                <a:gridCol w="314280"/>
                <a:gridCol w="284040"/>
                <a:gridCol w="354240"/>
                <a:gridCol w="282600"/>
                <a:gridCol w="284040"/>
                <a:gridCol w="282960"/>
                <a:gridCol w="284040"/>
                <a:gridCol w="425520"/>
                <a:gridCol w="450720"/>
                <a:gridCol w="398520"/>
              </a:tblGrid>
              <a:tr h="344160">
                <a:tc rowSpan="2"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gridSpan="12">
                  <a:txBody>
                    <a:bodyPr lIns="90000" rIns="90000" tIns="864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2 de imp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Management de Proiect in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ex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sigurare a infrastructurii aferente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promovare proiect, disemin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consultanţă şi expertiză  aferentă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8110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stagiu de schimb de experienţă şi bune practici într-o Administraţie Vamală a unui Stat Membru al  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udi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df5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A DE IMPLEMENTARE A PROIEC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CF4B1-E4E4-4EF7-B7F2-B634E77EF00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2421000"/>
          <a:ext cx="8641800" cy="4260600"/>
        </p:xfrm>
        <a:graphic>
          <a:graphicData uri="http://schemas.openxmlformats.org/drawingml/2006/table">
            <a:tbl>
              <a:tblPr/>
              <a:tblGrid>
                <a:gridCol w="6121800"/>
                <a:gridCol w="648360"/>
                <a:gridCol w="718920"/>
                <a:gridCol w="649440"/>
                <a:gridCol w="503280"/>
              </a:tblGrid>
              <a:tr h="344160">
                <a:tc rowSpan="2">
                  <a:txBody>
                    <a:bodyPr lIns="90000" rIns="90000" tIns="914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gridSpan="4">
                  <a:txBody>
                    <a:bodyPr lIns="90000" rIns="90000" tIns="864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3 de imp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813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Management de Proiect in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 management de proiect exter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sigurare a infrastructurii aferente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promovare proiect, disemin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8572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consultanţă şi expertiză  aferentă implementării proiectul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81108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rea unui stagiu de schimb de experienţă şi bune practici într-o Administraţie Vamală a unui Stat Membru al  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4200"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</a:t>
                      </a:r>
                      <a:r>
                        <a:rPr b="0" lang="vi-VN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ăţi de audi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8892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A DE IMPLEMENTARE A PROIEC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220500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ecialişti 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de la nivelul Direcţiei Tehnolog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ţiei, Comunicaţii şi Statistică Vamală din cadrul A.N.A.F. în număr de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ucrători vamal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utilizatori ai Sistemului Informatic Integrat Vamal (SIIV) în număr de 150, dintre c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898D4-FD89-4B26-9AF6-507CAAD3AB1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170028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UPUL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L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4005360"/>
            <a:ext cx="719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125 lucrători vamali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 fos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nstruiţi pe politica 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ecuritate a SII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25 lucrători vamali cu statut de formator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care vor asigura sustenabilitatea proiectului ulterior implementării acestuia, prin continuarea formării angajaţilor A.N.A.F. la toate nivelurile ierarh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440" y="2228760"/>
            <a:ext cx="52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1640" y="224964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olitica de Securitate IT în contextul Codului Vamal Modernizat European, elaborată şi aprobată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ăsuri/Proceduri de Securitate IT în contextul Codului Vamal Modernizat European, elaborate şi aprob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istem informatic de monitorizare a securităţii IT în contextul Codului Vamal Modernizat European dezvoltat, testat, implementat şi integrat  în SI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istem informatic pentru semnătură electronică, pentru Declaraţia Sumară de Intrare (DSI), dezvoltat, testat şi implementat la nivel de pilot şi integrat în SI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A2E67-9FA4-4C2F-A15D-FFDB55E7FF5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28640"/>
            <a:ext cx="8064360" cy="505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700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REZULTATELE PROIECTULU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276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789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501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3:12:26Z</dcterms:created>
  <dc:creator>ACG</dc:creator>
  <dc:description/>
  <dc:language>en-US</dc:language>
  <cp:lastModifiedBy/>
  <dcterms:modified xsi:type="dcterms:W3CDTF">2015-08-06T13:04:59Z</dcterms:modified>
  <cp:revision>112</cp:revision>
  <dc:subject/>
  <dc:title>“MONITORIZAREA ŞI EFICIENTIZAREA PROCESELOR DE LUCRU ŞI A FLUXULUI DE DOCUMENTE LA NIVEL CENTRAL ŞI LA NIVELUL UNITĂŢILOR TERITORIALE, PĂSTRAREA INFORMAŢIEI ÎN CONDIŢII SIGURE ŞI CU COSTURI OPTIME”</dc:title>
</cp:coreProperties>
</file>